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43DE-E439-4B51-B3BF-4BF4C078E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9E9E-CE68-440E-844C-6376ACD67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D570-7ABB-4752-9A83-2A39088A1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D0BB-1AB7-490B-B36B-124BBBE34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184D0-307A-4D47-A90B-28BB98F59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4B634-A182-4B0C-9A72-C6B8D86EE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58924-2D10-454C-AE5A-995E6994A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75C5D-017F-4458-A988-CFD4D9E0A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BDCDF-22DE-455E-812D-2E52C9CAF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DF846-0DF2-4ED1-B586-165A2F6DF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DFAD9-40AE-4E24-A50D-F62F7535A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F73C-1691-4117-877B-1E72A13C4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85317-9EAB-4DC6-9A3E-BB249A075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19ED3-4258-4411-AB68-A030AEA89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03223-E631-41B6-95B9-84EEC76DB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CD38E-FC83-4D73-BDB5-9E4DDDDF8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20D9E-5A75-4337-8432-7B911992B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E0C0-D929-4AA1-9355-289F1354E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9061-1734-4B76-8558-0F4A4114F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EAC6-0E55-4175-A972-5E1CBDD9E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4A41-581F-4416-ACF9-7D8F10047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A961-662D-4BD0-A1DB-F11ACF0D5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92E1-7C43-4D9E-89AA-A0F38A6A0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699A-8649-486C-A513-F28EF0F33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6DB63-B61C-41A2-A081-7E6D868F75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79788-1149-4418-8C4C-DA95DB7478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IR, WE WOULD SEE  JESUS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LIFE OF CHRIST PART 1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2666880"/>
            <a:ext cx="64008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RTER 9, LESS0N 1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HN 6:22-7:1; MARK 7:24-3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GES 70-7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04D77-A805-4D31-B01E-C80059E4108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THE SECOND RETIREMENT  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and His disciples leave Israel proper and go into vicinity of Tyre and Sidon - Mt. 15:2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Gentile woman with a demon-possessed young daughter came to Jesus - Mt. 15:2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says “I was not sent except to the lost sheep of the house of Israel” - Mt. 15:2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4E0B-5C29-4A0E-8263-1CE04C6F61A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8" dur="2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3" dur="20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8" dur="20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THE SECOND RETIREMENT (CONT.)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man worships and says “Lord, help me” - Mt. 15:2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answers “it is not good to take the children’s bread and cast it to the little  dogs” - Mt. 15:2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53E0-C9ED-43F8-8357-CF847658DF1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THE SECOND RETIREMENT (CONT.)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oman replies “true, Lord, yet the little dogs eat the crumbs which fall from the master’s table” - Mt. 15:2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us said “O woman, great is your faith: let it be to you as you desire” - Mt. 15:2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this exchange, Jesus was not being cruel nor unfeeling or insulting; He was making the point that His mission was among the Jews and the woman seemed to underst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5959-2919-48D9-83EF-A4FFF715761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9" dur="1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4" dur="10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9" dur="10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8364240" cy="6002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 flipH="1" flipV="1">
            <a:off x="6248160" y="1219320"/>
            <a:ext cx="1600200" cy="83808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429000" y="685800"/>
            <a:ext cx="1905120" cy="609480"/>
          </a:xfrm>
          <a:prstGeom prst="line">
            <a:avLst/>
          </a:prstGeom>
          <a:ln w="76320">
            <a:solidFill>
              <a:srgbClr val="008ae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2971800" y="1676160"/>
            <a:ext cx="2286000" cy="68580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8C25-D98A-41F9-841E-00F1E5F76BD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HE FIRST RETIREMENT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ext day after walking on the water, Jesus is not found in Bethsaida – John 6:22-2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eople find Jesus at Capernaum –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John 6:25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responds to the people by saying “you hunt for me not because of the signs but because you ate of the loaves …” – John 6:2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tells them to labor for the food that gives eternal life – John 6:2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EB08-91C9-4BBB-8EC9-0D4D39A40DB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HE FIRST RETIREMENT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eople soon become antagonist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ask “what must we do to do the works of God?” - John 6:2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8736-FFB4-4C25-A0E7-BE81CFFE5A0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HE FIRST RETIREMENT (Cont.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answer to their question, Jesus tells the multitude the work God would have them do is to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eliev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n the One He had sent – John 6:2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asking for a sign, the people ignored the miracle they had witnessed: the feeding of a vast multitu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eople speak of physical bread (manna); Jesus speaks of spiritual bread saying “I am the bread of life…”- John 6:3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5F4E-E5B4-46E9-A135-31F36F2153B8}" type="slidenum">
              <a:t>5</a:t>
            </a:fld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HE FIRST RETIREMENT (Cont.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claims to be bread from heaven, the Jews begin to murmur against  Him –  John 6:41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answers “the bread which I shall give is my flesh” – John 6:5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4B75-F8E3-40E6-875A-4401CF17C128}" type="slidenum">
              <a:t>6</a:t>
            </a:fld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HE FIRST RETIREMENT (Cont.)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who eats my flesh and drinks my blood has eternal life” – John 6:5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y followers said “this is a hard saying. Who can accept it?” – John 6:6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 this point, many of Jesus’ followers stopped walking with Him – John 6:6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us asked the twelve “will you also go away?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ter replied “Lord, to whom shall we go? You have the words of eternal life” – John 6:6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9238-1593-4B1A-90E8-1E690D7E57D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HE FIRST RETIREMENT (cont.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position to Jesus gro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did not want to walk in Judea because there the Jews sought to kill Him -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ohn 7: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re had been plots to kill Him at Galilee als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ribes and Pharisees come from Jerusalem asking about their tradition of washing hands before eating – Mt. 15:1-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AD49-81D7-4525-9A1F-85FC0C6EECC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HE FIRST RETIREMENT (cont.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first asks them about honoring father and mother – Mt. 15:4f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, what defiles a man?  What follows is answer to hand-washing ques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arisees are “blind leaders of the blind.”  - Mt. 15:1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2849-8994-4CBC-B9CA-857D4DCFC84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5T04:42:06Z</dcterms:created>
  <dc:creator>billy lauderdale</dc:creator>
  <dc:description/>
  <dc:language>en-US</dc:language>
  <cp:lastModifiedBy>Frank D Vines</cp:lastModifiedBy>
  <dcterms:modified xsi:type="dcterms:W3CDTF">2006-09-16T15:04:37Z</dcterms:modified>
  <cp:revision>60</cp:revision>
  <dc:subject/>
  <dc:title>LIFE OF CHRIST</dc:title>
</cp:coreProperties>
</file>